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B9E9D-5ABA-44D6-AC2D-9A0B5CBC5A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 out copies of the article. Instruct students to read the article along with the teacher when directed.  Students can find the complete article on pages 5-9 in September 2005 National Geographic Explorer.  Complete text is also printed in word forma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nstrate how to use a double bubble map by comparing two parts of the dragonfly life cy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diagram is a flow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 student version of a flow ma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ysical parts of a dragonfly.  A simplified version of this is on page 7 in the actual articl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diagram from the 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ree map is one way to organize the information from the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flow map.  The event is that dragonflies are in danger of becoming extinct.  The causes are on the left and the effects are on the righ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fore reading the article have students tell the teacher all that they know about dragonflies, and where they learned that information.  Create a circle map for that in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ace Map.  The actual head, thorax and abdo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the same circle map from before the article and add additional information from the article as a post-assess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the circle map show this picture of a dragonfly and the next picture.  There may be students who do not know what a dragonfly i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viewing this picture, read the article up to Built to Hu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is slide when reading the section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Built to Hu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is slide when reading the sectio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From Water to Air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CFB0-159C-427D-BF16-BE364F24D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52E8-D8DB-40BF-B00A-94B2F4CF1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7535B-E8FF-4D7A-ACB0-BF49CB830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EFD3-7108-4072-AEE1-E8E382931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D716-9305-4AB1-A383-813F80728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78BC-01A4-4C79-AB6A-3A7E8E26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EA78-5BA7-486A-91E4-F54347B77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B25D-F8BA-4001-9412-3E7DEBBEF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AB5D-3E08-4913-8527-9A246632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BB7D-A662-4BB8-86BE-461E7994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5265-6177-47EA-AB59-D4E09B430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5FE-CDFF-4687-9AB9-76C056073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D291-D241-437F-9358-CED729C9C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yedesignbook.com/ch2/fig2-10BG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rcRect l="0" t="0" r="4000" b="0"/>
          <a:stretch/>
        </p:blipFill>
        <p:spPr>
          <a:xfrm>
            <a:off x="1219320" y="0"/>
            <a:ext cx="6627600" cy="70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90720" y="631800"/>
            <a:ext cx="754380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228600" y="304920"/>
            <a:ext cx="8686800" cy="5029200"/>
            <a:chOff x="228600" y="304920"/>
            <a:chExt cx="8686800" cy="5029200"/>
          </a:xfrm>
        </p:grpSpPr>
        <p:sp>
          <p:nvSpPr>
            <p:cNvPr id="75" name=""/>
            <p:cNvSpPr/>
            <p:nvPr/>
          </p:nvSpPr>
          <p:spPr>
            <a:xfrm>
              <a:off x="1295280" y="1600200"/>
              <a:ext cx="1905120" cy="17524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715000" y="1523880"/>
              <a:ext cx="1905120" cy="17528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920" y="533520"/>
              <a:ext cx="990360" cy="99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58000" y="3657600"/>
              <a:ext cx="990720" cy="990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924680" y="2057400"/>
              <a:ext cx="990720" cy="990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238880" y="304920"/>
              <a:ext cx="990720" cy="99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28600" y="2819520"/>
              <a:ext cx="990720" cy="99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0200" y="3733920"/>
              <a:ext cx="990720" cy="99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809880" y="762120"/>
              <a:ext cx="990720" cy="9903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733920" y="2666880"/>
              <a:ext cx="990360" cy="990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86200" y="4343400"/>
              <a:ext cx="990720" cy="990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4800240" y="3200400"/>
              <a:ext cx="15238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4724280" y="2666880"/>
              <a:ext cx="99072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flipV="1">
              <a:off x="4800240" y="1371600"/>
              <a:ext cx="106668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66880" y="3276720"/>
              <a:ext cx="129564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048120" y="2895480"/>
              <a:ext cx="6858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895480" y="1295280"/>
              <a:ext cx="9144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7086600" y="1219320"/>
              <a:ext cx="30492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0120" y="25146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086600" y="320040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1218960" y="137124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1142640" y="289548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057400" y="3352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1752480" y="22096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Lar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19920" y="1981080"/>
            <a:ext cx="15238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Ad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99"/>
                </a:solidFill>
                <a:latin typeface="Arial"/>
              </a:rPr>
              <a:t>Dragonf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0880" y="838080"/>
            <a:ext cx="83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No w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312408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Lives in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403848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Hatches from 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533520"/>
            <a:ext cx="838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Emerges from lar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01000" y="2286000"/>
            <a:ext cx="838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Has w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380988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ives near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990720"/>
            <a:ext cx="83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2819520"/>
            <a:ext cx="838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Part of same life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46483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99cc00"/>
                </a:solidFill>
                <a:latin typeface="Arial"/>
              </a:rPr>
              <a:t>carniv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4952880"/>
            <a:ext cx="180036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342200" y="4952880"/>
            <a:ext cx="1801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10640" cy="61689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657600" y="5334120"/>
            <a:ext cx="205740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276720" y="5029200"/>
            <a:ext cx="380880" cy="304560"/>
            <a:chOff x="3276720" y="5029200"/>
            <a:chExt cx="380880" cy="304560"/>
          </a:xfrm>
        </p:grpSpPr>
        <p:sp>
          <p:nvSpPr>
            <p:cNvPr id="114" name=""/>
            <p:cNvSpPr/>
            <p:nvPr/>
          </p:nvSpPr>
          <p:spPr>
            <a:xfrm flipV="1">
              <a:off x="3276720" y="5232240"/>
              <a:ext cx="75960" cy="101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429000" y="5029200"/>
              <a:ext cx="76320" cy="101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3581280" y="5130720"/>
              <a:ext cx="76320" cy="1011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3429000" y="5232240"/>
              <a:ext cx="76320" cy="10152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 flipH="1" flipV="1">
            <a:off x="6172200" y="2819160"/>
            <a:ext cx="1447920" cy="1981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047760" y="2133720"/>
            <a:ext cx="20574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90920" y="4876920"/>
            <a:ext cx="609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762120" y="1066680"/>
            <a:ext cx="7772040" cy="4647960"/>
            <a:chOff x="762120" y="1066680"/>
            <a:chExt cx="7772040" cy="4647960"/>
          </a:xfrm>
        </p:grpSpPr>
        <p:sp>
          <p:nvSpPr>
            <p:cNvPr id="122" name=""/>
            <p:cNvSpPr/>
            <p:nvPr/>
          </p:nvSpPr>
          <p:spPr>
            <a:xfrm>
              <a:off x="762120" y="1066680"/>
              <a:ext cx="2711160" cy="1584360"/>
            </a:xfrm>
            <a:prstGeom prst="rect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473280" y="1489320"/>
              <a:ext cx="2169000" cy="844560"/>
            </a:xfrm>
            <a:prstGeom prst="rightArrow">
              <a:avLst>
                <a:gd name="adj1" fmla="val 50000"/>
                <a:gd name="adj2" fmla="val 64205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42280" y="1066680"/>
              <a:ext cx="2711160" cy="1584360"/>
            </a:xfrm>
            <a:prstGeom prst="rect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823000" y="4130280"/>
              <a:ext cx="2711160" cy="1584360"/>
            </a:xfrm>
            <a:prstGeom prst="rect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5400000">
              <a:off x="6257880" y="3028680"/>
              <a:ext cx="1478880" cy="723240"/>
            </a:xfrm>
            <a:prstGeom prst="rightArrow">
              <a:avLst>
                <a:gd name="adj1" fmla="val 50000"/>
                <a:gd name="adj2" fmla="val 5112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0800000">
              <a:off x="3563280" y="4552560"/>
              <a:ext cx="2169000" cy="845280"/>
            </a:xfrm>
            <a:prstGeom prst="rightArrow">
              <a:avLst>
                <a:gd name="adj1" fmla="val 50000"/>
                <a:gd name="adj2" fmla="val 6415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52480" y="4130280"/>
              <a:ext cx="2711160" cy="1584360"/>
            </a:xfrm>
            <a:prstGeom prst="rect">
              <a:avLst/>
            </a:prstGeom>
            <a:noFill/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1197000" y="3029040"/>
              <a:ext cx="1478880" cy="722520"/>
            </a:xfrm>
            <a:prstGeom prst="rightArrow">
              <a:avLst>
                <a:gd name="adj1" fmla="val 50000"/>
                <a:gd name="adj2" fmla="val 51171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990720" y="1295280"/>
            <a:ext cx="2361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 dragonfly l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gs in wa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13716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gs hatch and become lar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943600" y="44956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fter one year larva sheds hard sk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90720" y="44956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va has become adult dragonf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733920" y="2438280"/>
            <a:ext cx="15843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-108000"/>
            <a:ext cx="9144000" cy="694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0" r="600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0"/>
            <a:ext cx="7924680" cy="67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971800" y="1066320"/>
            <a:ext cx="4038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agonfl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523880" y="2666880"/>
            <a:ext cx="6629040" cy="762120"/>
            <a:chOff x="1523880" y="2666880"/>
            <a:chExt cx="6629040" cy="762120"/>
          </a:xfrm>
        </p:grpSpPr>
        <p:grpSp>
          <p:nvGrpSpPr>
            <p:cNvPr id="140" name=""/>
            <p:cNvGrpSpPr/>
            <p:nvPr/>
          </p:nvGrpSpPr>
          <p:grpSpPr>
            <a:xfrm>
              <a:off x="1523880" y="2666880"/>
              <a:ext cx="6629040" cy="762120"/>
              <a:chOff x="1523880" y="2666880"/>
              <a:chExt cx="6629040" cy="762120"/>
            </a:xfrm>
          </p:grpSpPr>
          <p:sp>
            <p:nvSpPr>
              <p:cNvPr id="141" name=""/>
              <p:cNvSpPr/>
              <p:nvPr/>
            </p:nvSpPr>
            <p:spPr>
              <a:xfrm>
                <a:off x="1523880" y="2666880"/>
                <a:ext cx="662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523880" y="266688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152920" y="2666880"/>
                <a:ext cx="0" cy="76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4724280" y="2666880"/>
              <a:ext cx="0" cy="76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066680" y="2133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2133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or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467480" y="21337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bd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3505320"/>
            <a:ext cx="99072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ound  ey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91120" y="3505320"/>
            <a:ext cx="99036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696080" y="3505320"/>
            <a:ext cx="9907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estive tr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ppend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28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981080" y="1292040"/>
            <a:ext cx="5793120" cy="4501800"/>
            <a:chOff x="1981080" y="1292040"/>
            <a:chExt cx="5793120" cy="4501800"/>
          </a:xfrm>
        </p:grpSpPr>
        <p:grpSp>
          <p:nvGrpSpPr>
            <p:cNvPr id="153" name=""/>
            <p:cNvGrpSpPr/>
            <p:nvPr/>
          </p:nvGrpSpPr>
          <p:grpSpPr>
            <a:xfrm>
              <a:off x="3733920" y="2666880"/>
              <a:ext cx="2286000" cy="1828800"/>
              <a:chOff x="3733920" y="2666880"/>
              <a:chExt cx="2286000" cy="1828800"/>
            </a:xfrm>
          </p:grpSpPr>
          <p:sp>
            <p:nvSpPr>
              <p:cNvPr id="154" name=""/>
              <p:cNvSpPr/>
              <p:nvPr/>
            </p:nvSpPr>
            <p:spPr>
              <a:xfrm>
                <a:off x="3733920" y="2666880"/>
                <a:ext cx="2286000" cy="182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886200" y="2895480"/>
                <a:ext cx="1981080" cy="100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Dragonflies  are in danger of dying out.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 rot="19309200">
              <a:off x="5867280" y="1752120"/>
              <a:ext cx="1752840" cy="761760"/>
            </a:xfrm>
            <a:prstGeom prst="rightArrow">
              <a:avLst>
                <a:gd name="adj1" fmla="val 50000"/>
                <a:gd name="adj2" fmla="val 57526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019920" y="3047760"/>
              <a:ext cx="1752480" cy="762120"/>
            </a:xfrm>
            <a:prstGeom prst="rightArrow">
              <a:avLst>
                <a:gd name="adj1" fmla="val 50000"/>
                <a:gd name="adj2" fmla="val 5748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rot="1584600">
              <a:off x="5943600" y="4419360"/>
              <a:ext cx="1752480" cy="762120"/>
            </a:xfrm>
            <a:prstGeom prst="rightArrow">
              <a:avLst>
                <a:gd name="adj1" fmla="val 50000"/>
                <a:gd name="adj2" fmla="val 5748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2371200">
              <a:off x="2133720" y="2133000"/>
              <a:ext cx="1752480" cy="762120"/>
            </a:xfrm>
            <a:prstGeom prst="rightArrow">
              <a:avLst>
                <a:gd name="adj1" fmla="val 50000"/>
                <a:gd name="adj2" fmla="val 5748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981080" y="3200040"/>
              <a:ext cx="1752840" cy="762120"/>
            </a:xfrm>
            <a:prstGeom prst="rightArrow">
              <a:avLst>
                <a:gd name="adj1" fmla="val 50000"/>
                <a:gd name="adj2" fmla="val 57499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9309200">
              <a:off x="2133720" y="4571640"/>
              <a:ext cx="1752480" cy="762120"/>
            </a:xfrm>
            <a:prstGeom prst="rightArrow">
              <a:avLst>
                <a:gd name="adj1" fmla="val 50000"/>
                <a:gd name="adj2" fmla="val 5748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762120" y="762120"/>
            <a:ext cx="1676160" cy="1676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" y="2666880"/>
            <a:ext cx="167652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4648320"/>
            <a:ext cx="1676160" cy="1676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467480" y="609480"/>
            <a:ext cx="167652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467480" y="2590920"/>
            <a:ext cx="1676520" cy="1676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467480" y="4876920"/>
            <a:ext cx="1676520" cy="16761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990720"/>
            <a:ext cx="15242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People are cutting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for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2743200"/>
            <a:ext cx="1524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Building homes removes standing wa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4876920"/>
            <a:ext cx="152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Habitats are becoming sma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0120" y="8380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More mosquit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20120" y="29718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ss food for birds and liza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20120" y="5257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Less food for  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3657600" y="304920"/>
            <a:ext cx="16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28800" y="609480"/>
            <a:ext cx="6095880" cy="586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733920" y="2590920"/>
            <a:ext cx="2057400" cy="1904760"/>
            <a:chOff x="3733920" y="2590920"/>
            <a:chExt cx="2057400" cy="1904760"/>
          </a:xfrm>
        </p:grpSpPr>
        <p:sp>
          <p:nvSpPr>
            <p:cNvPr id="51" name=""/>
            <p:cNvSpPr/>
            <p:nvPr/>
          </p:nvSpPr>
          <p:spPr>
            <a:xfrm>
              <a:off x="3733920" y="2590920"/>
              <a:ext cx="2057400" cy="1904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886200" y="32767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Dragonf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85800" y="304920"/>
            <a:ext cx="7924680" cy="6400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57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58000" y="457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6172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010280" y="6248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352680" y="1066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ct        pretty         fl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25780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81280" y="4800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5562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near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905120" y="3048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8672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s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6386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143000" y="838080"/>
            <a:ext cx="2819520" cy="5257800"/>
          </a:xfrm>
          <a:custGeom>
            <a:avLst/>
            <a:gdLst>
              <a:gd name="textAreaLeft" fmla="*/ 1801440 w 2819520"/>
              <a:gd name="textAreaRight" fmla="*/ 2819880 w 2819520"/>
              <a:gd name="textAreaTop" fmla="*/ 136800 h 5257800"/>
              <a:gd name="textAreaBottom" fmla="*/ 5121000 h 5257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35053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47912" t="21856" r="43847" b="66464"/>
          <a:stretch/>
        </p:blipFill>
        <p:spPr>
          <a:xfrm>
            <a:off x="4038480" y="533520"/>
            <a:ext cx="990720" cy="9144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2"/>
          <a:srcRect l="28883" t="32569" r="24180" b="49899"/>
          <a:stretch/>
        </p:blipFill>
        <p:spPr>
          <a:xfrm>
            <a:off x="3505320" y="2438280"/>
            <a:ext cx="5638680" cy="137160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rcRect l="49182" t="46212" r="45749" b="17752"/>
          <a:stretch/>
        </p:blipFill>
        <p:spPr>
          <a:xfrm>
            <a:off x="4038480" y="4038480"/>
            <a:ext cx="609840" cy="28195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0" y="2209680"/>
            <a:ext cx="187308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828800" y="609480"/>
            <a:ext cx="6095880" cy="5867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733920" y="2590920"/>
            <a:ext cx="2057400" cy="1904760"/>
            <a:chOff x="3733920" y="2590920"/>
            <a:chExt cx="2057400" cy="1904760"/>
          </a:xfrm>
        </p:grpSpPr>
        <p:sp>
          <p:nvSpPr>
            <p:cNvPr id="183" name=""/>
            <p:cNvSpPr/>
            <p:nvPr/>
          </p:nvSpPr>
          <p:spPr>
            <a:xfrm>
              <a:off x="3733920" y="2590920"/>
              <a:ext cx="2057400" cy="190476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886200" y="32767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99"/>
                  </a:solidFill>
                  <a:latin typeface="Arial"/>
                </a:rPr>
                <a:t>Dragonf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85800" y="304920"/>
            <a:ext cx="7924680" cy="6400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457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ev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0" y="4572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617220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62485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52680" y="1066680"/>
            <a:ext cx="30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ct        pretty         fl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257800" y="19810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g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581280" y="480060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e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81280" y="556272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ves near wa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05120" y="30481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ng w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335268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s eg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638680" y="46483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i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8288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5000 spe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91320" y="2514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carniv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209680" y="380988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Compound e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38862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Good eyes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6400" y="5029200"/>
            <a:ext cx="152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On Earth 250 million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362320" y="4724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cc00"/>
                </a:solidFill>
                <a:latin typeface="Arial"/>
              </a:rPr>
              <a:t>Adults live short 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-76320" y="838080"/>
            <a:ext cx="9677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905120" y="0"/>
            <a:ext cx="537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0" r="0" b="7338"/>
          <a:stretch/>
        </p:blipFill>
        <p:spPr>
          <a:xfrm>
            <a:off x="533520" y="838080"/>
            <a:ext cx="8305560" cy="57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15563" t="14059" r="12130" b="10019"/>
          <a:stretch/>
        </p:blipFill>
        <p:spPr>
          <a:xfrm>
            <a:off x="228600" y="762120"/>
            <a:ext cx="8686800" cy="59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fig2-10TN.jpg Example of Apposition Compound Eyes 200x19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14400" y="0"/>
            <a:ext cx="70866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rcRect l="5953" t="4512" r="11509" b="6055"/>
          <a:stretch/>
        </p:blipFill>
        <p:spPr>
          <a:xfrm>
            <a:off x="0" y="-533520"/>
            <a:ext cx="9144000" cy="759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0" r="3535" b="0"/>
          <a:stretch/>
        </p:blipFill>
        <p:spPr>
          <a:xfrm>
            <a:off x="1295280" y="0"/>
            <a:ext cx="645480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536840" y="0"/>
            <a:ext cx="5770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23:09:35Z</dcterms:created>
  <dc:creator>Mom and Dad</dc:creator>
  <dc:description/>
  <dc:language>en-US</dc:language>
  <cp:lastModifiedBy>Tanis L. Fink</cp:lastModifiedBy>
  <dcterms:modified xsi:type="dcterms:W3CDTF">2005-10-20T20:35:39Z</dcterms:modified>
  <cp:revision>3</cp:revision>
  <dc:subject/>
  <dc:title>Slide 1</dc:title>
</cp:coreProperties>
</file>